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2790-1F6A-490E-BCFE-11C49A88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6E5-A60C-462C-983E-0F2AF24E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23F-19AB-469B-A381-6F1E8ABA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388-2EE2-4CCD-9D14-7F7F55F7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1AAE-E638-4876-85DF-EE70A8B06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3508-0BA4-47BE-8581-31373A623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4539-D387-401F-9FD5-A943006E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DB1E-C8C6-4640-A2F9-E1424B45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84DA-C456-4246-BF72-B3D56412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ECA7-7F51-4D9B-ADE0-6D6C2778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3651-9899-4D1D-B593-8194455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FD6-A598-47F5-A737-F7994096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01F1-95EE-4DBE-B094-9D603C6B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C1A5-B36B-46C4-BF38-3A4DFDC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D9EC-7F47-4649-B9A6-8CA48270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B27A-FC91-4F7C-BA0D-74F3CF99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1F75-4BB2-4FC6-B51D-9B2911AF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9DB-722D-47EA-BC68-CFE32FBB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8E79-9C36-4B86-B5E5-2DE77F36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A43-5F30-4FBD-A654-DF1859DB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7EF2-2689-4D82-8304-7A187754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347-2ED5-4DCF-A735-60CBBA4E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ED48-7857-44E1-A77A-501A1B3F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7BC9-8598-405A-ADB9-DC89FF80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FB86-18F7-4581-8694-A9C5C09FA90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648B-ACDC-475F-B6A3-668E2BD6A78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85840" y="1066680"/>
            <a:ext cx="47242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固体催化剂的表征方法—</a:t>
            </a:r>
            <a:br>
              <a:rPr sz="4400"/>
            </a:b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/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还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/TPR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00800" y="3801960"/>
            <a:ext cx="22860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***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009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5410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程序升温还原（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TPR)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应用于表征负载型金属或过渡金属氧化物催化剂，对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结果进行分析可以获得金属与载体的相互作用，金属的价态和是否形成合金等方面的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徐柏庆，徐奕德等，程序升温原位分析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5261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还原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负载的金属的价态，聚集状态，与载体的作用发生改变的时候，其还原温度，还原后的价态将会发生改变，如果能测出程序升温还原过程中氢气的消耗量，还原温度等，就能得到负载金属的一些状态参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685800"/>
            <a:ext cx="404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步骤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水分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800"/>
            <a:ext cx="145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.Ni/ZrO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B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.Co-Ni/ZrO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The increase metal loading reduces the metal-support interaction and the metal oxide reduces with less interference from the support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aresh C.Das,Catalysis Letters Vol.98,Nos.2-3,November 200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67080" y="1447920"/>
            <a:ext cx="44960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167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4267440" cy="4419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4191120" cy="4419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617220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Times New Roman"/>
              </a:rPr>
              <a:t>Gonzalo Aguila,Catalysis Communications 9(2008)2550-2554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谢   谢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年代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Ovetanovio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menomiya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成功建立和发展了程序升温技术，在最近的几十年中，不管是理论上还是在实验上都得到了充分的完善，并且有广泛的应用，通过此方法可以得到气体在催化剂上吸附键的强弱等信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辛勤，催化研究中的原位技术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685440"/>
            <a:ext cx="640692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.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(TPD)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4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测量某固体酸碱的强度和数量时，固体上的物种活性系数是未知的，因此从热力学上来讲固体的酸度和碱度都是不确定的，如果考虑到上述局限性，又不过分强调数值的精度，其绝对值还是非常重要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常用于测定酸强度和酸量的方法有胺滴定法，红外和气体吸附脱附法，后两方法更为普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程序升温脱附原理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7848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碱性气体在酸性中心上吸附时，吸附在强酸中心上的比吸附在弱酸中心上的稳定，也更难脱附，提高温度可令其从酸性中心上脱附，而那些在弱酸中心上的将首先脱附，因此测定在不同温度下脱附的吸附碱相对量可测定酸中心强度，而脱附的碱性气体的量也就对应其酸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常用的碱性气体有氨气，吡啶和正丁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Arial"/>
              </a:rPr>
              <a:t>田部浩三，新固体酸和碱及其催化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两种常用的研究酸技术的比较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523880"/>
          <a:ext cx="6553080" cy="502632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28600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程序升温脱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吡啶红外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1368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量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峰面积计算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强度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温度范围较宽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，只能比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00℃</a:t>
                      </a: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以内的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分布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酸类型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可以</a:t>
                      </a:r>
                      <a:endParaRPr b="0" lang="en-US" sz="2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cc"/>
                      </a:solidFill>
                    </a:lnL>
                    <a:lnR w="1368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1368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282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简要操作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：吹扫吸附在催化剂上的水分和杂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吸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吹扫物理吸附的气体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程序升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1371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19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Cu-Mn-Si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耦合反应合成环己酮和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-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甲基呋喃的研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3: Cu:Mn=1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4: Cu:Mn:Si=1:1.12:2.32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5: Cu:Mn:Si=1:1.12:1.1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A6: Cu:Mn:Si=1:1.12:0.67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结论：弱酸对环己醇脱氢没有太大的影响，而中等强度的酸对环己酮的收率影响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ong-Yan Zheng,Yu-Lei Zhu,Catalysis Communications 9(2008)342-348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0" y="990720"/>
            <a:ext cx="440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例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114800" cy="4343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6095880"/>
            <a:ext cx="6095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Komandur V.R.Chary,J.Phys.Chem.B,2007,111(3),543-550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33320" y="1371600"/>
            <a:ext cx="33372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TPD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的几种延伸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4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原位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PD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2.TPD-IR-MS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储伟 ，催化剂工程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肖丰收，辛勤，催化研究中的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TPD-IR-MS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方法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KLTLZX</cp:lastModifiedBy>
  <dcterms:modified xsi:type="dcterms:W3CDTF">2011-11-02T01:43:13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